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F5F-8C02-44AC-A5FD-18308A16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8D1-3D65-4DD3-8F4A-3EA7B10C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9C60-69CB-43D7-AF35-3886E18D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3CD-79AA-4D5B-84CF-85CBF5FB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1E612-3195-4632-A772-AC73127D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8B48C-ADB7-4A2C-87DD-619CBCEF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44173-9627-4813-A874-4AE17F23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A623C-6CD7-45CB-B523-4D408618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5A589-CE3E-4A15-8EB0-685FCFE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9C6FC-5FDF-4FBE-966E-D5E72D19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FBCCF-A960-4250-AB1C-EC79C23B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01D-52CD-4C82-B8B0-7756B948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CD312-745F-442E-916E-7B691B0F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09701-4CFA-4047-BA1D-F424F6B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59F64-473B-42F3-B897-B29D5D64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DB130-EFBD-4F2D-8CDF-559BD6D8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EA851-9DC4-4AFC-875D-224071DB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B65B6-B503-47B5-BB77-B5FE1FE2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34F8-064A-4FA8-BE77-414F8DDC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52C3A-5BC2-4979-8C0E-3DE9BCFE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3E4B-4D76-4EBE-A5A2-F8C124FA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DA07-284B-4469-BDB6-A84B343C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C99-BC6F-49FC-ACDD-E655EF60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0C35-4000-4F95-83C4-5D5ECC4B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62566-73D9-439E-8733-1EDD526D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3D89-FC60-4C43-B41C-0A47472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F400-CDCC-4B96-809B-5D82EDFA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F2854-6CB7-4418-B7B8-96F8DB7C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558E-E1FC-4E68-AE9B-AF1159D0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0676F-ED82-4708-BECD-3A6AB00B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E316F-BE48-4021-9A82-0409F70D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CE951-60E4-4BF9-93FA-A498DBDB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8BF90-DD47-440D-A451-8F8B48CE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6BE-8AF5-4C0D-A88D-48F3C6CF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E6EC0-C826-4E61-81C8-DEF7DC3CA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DF9CE-AA01-4169-A0AF-237C0276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E3BFCA-D2D6-4F69-9106-B54EB9C6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55FF3-BB10-4050-9CCB-1DC4B32E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A4AD6C-0582-4DCD-A11F-33BB513D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99519-D5CC-4864-B717-E5BA17AA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22EE90-C0B3-429B-93BD-842B4AE4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66E10-9448-4816-A115-7B116CCC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8076CB-DDF9-418B-BE2D-8300FD64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B3DE8-C1A7-4A85-B753-BAB5FC35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155-A36C-470F-8334-7BDD36C8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0F21E3-6C7C-4E2C-AB7E-17AABCFF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A0329-A0F0-445B-821A-104309A7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EDB5CB-1CE1-4CA3-898D-6AF16D62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F8B40D-9754-4822-B212-DF9E16A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C2F30-093E-4919-82E3-1BDC02D7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BBCEC-CFC7-4BBB-A8F5-F8CDA27C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2C829-A4FF-4F75-8FE8-3D15C1BA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5E7F2E-C574-4F7C-8790-2809272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907D92-EAAD-42A4-BCAD-399352BB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8FA82-DFF5-474B-B13A-81696B8E0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4D3-44D3-49DE-9F4C-0D4E8D43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DFE1B4-1807-407E-B3F0-B5828CE1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310465-64E1-4E0E-AC17-432E28D0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50980-1477-40E9-A3E1-91C7172E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4B000-0EF2-4E67-BE79-B33EC2BF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00039-6D74-41BB-A37B-508BE9F4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AF1A2-5D13-4B8F-95E4-6BEFFA30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710B0-57B5-4DD3-9C95-613C0679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45638D-6A52-4950-A220-D052C58E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1DF727-E214-4404-926C-820169C0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8391B-3C20-4D00-BBEB-248C16D5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5A9-3A02-4B98-8356-5DF4C5B2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9384A-F878-426C-8057-C9C62F80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0CED15-EEDF-4EF2-B7EF-B543004C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C8D8E-ED86-4FB6-B147-2749BF8C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F0E-C063-4737-AAC1-44569981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0F18-6439-44E6-980E-7DCB6456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5128-B717-4F8D-A954-5CAF3E3CAC5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B13C-4202-47AF-AB68-ECAB45EF234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F1F8-42A5-437A-9C4C-F91F6E17118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4AB6-912B-43C7-9C6A-F6B45D303BC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463D-F4B6-426D-81C6-319CF6CBC8F8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8046-A391-4DDA-BA5C-022F15EBBCB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Presented by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Madid, Shahri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ac9"/>
                </a:solidFill>
                <a:latin typeface="Constantia"/>
              </a:rPr>
              <a:t>Open, Leah Ma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Steps in Herbarium Preparation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. Selection of botanical specime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. Collection and preserv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. Pressing the specimen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. Drying the specimens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. Identific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. Recording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Title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4" descr=""/>
          <p:cNvPicPr/>
          <p:nvPr/>
        </p:nvPicPr>
        <p:blipFill>
          <a:blip r:embed="rId2"/>
          <a:stretch/>
        </p:blipFill>
        <p:spPr>
          <a:xfrm>
            <a:off x="669960" y="22860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685800" y="1523880"/>
            <a:ext cx="3733920" cy="4572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4"/>
          <a:stretch/>
        </p:blipFill>
        <p:spPr>
          <a:xfrm>
            <a:off x="4697280" y="1546200"/>
            <a:ext cx="376092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Steps in Animal Preservation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1. Selection of Animal to be preserve.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2. Collection and preserv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3. Wash the specime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4. Preserve the specimen by injecting or    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 submerging it with formaldehyde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5. Identification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6. Recording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Title 1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ontent Placeholder 2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3948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2:45:16Z</dcterms:created>
  <dc:creator>Student</dc:creator>
  <dc:description/>
  <dc:language>en-US</dc:language>
  <cp:lastModifiedBy>CISO</cp:lastModifiedBy>
  <dcterms:modified xsi:type="dcterms:W3CDTF">2010-09-20T23:10:59Z</dcterms:modified>
  <cp:revision>7</cp:revision>
  <dc:subject/>
  <dc:title>Sample Unit Project Let’s Classify</dc:title>
</cp:coreProperties>
</file>